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B3C4-5E37-4BA3-AEA2-29D24B8C56A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1735-88E6-4F7C-80CC-DC4FE582695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49AD-3D9A-4724-AD02-D227F6232D3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BE4-14F5-45BC-B9D7-095F1F98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8AA-6A6F-4BF6-AC97-5F96D735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774-1033-49B2-ACB9-2407FD6C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18E-7716-4F89-8CBB-3A6B54E1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35DB-B792-476D-A1ED-540E2693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641E-7845-49CF-8B54-BF19FDF7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8A46-E07B-4B40-95FD-E7FDC4A1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C2AD-82A0-4CF7-BA4A-47D79A01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8B6E-0FD1-41CE-B9D1-BA0C9513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A05F-998A-4519-B1E1-8E91EAB0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09BF-958B-4095-82C2-DF21D083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AEF-8CE1-4D4E-802F-37A35FA4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A570-A75F-464B-9775-FDBA402B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BA3C-7C51-4CCE-9C15-F46A8105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9A05-4E6A-40FC-AC6E-AFF2CA9E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AE26-F2E2-4238-820E-EEE8047C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4FB2-7B2A-447A-B353-3C832A08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9D49-B5D0-48C9-9A36-150DA692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B585-E2B7-462D-857E-A8C5599B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65C3-ADFC-4E67-9F52-26436069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9C6A7-F5A1-4D75-AC07-D7A1E8B7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2F07-5805-4303-AF39-2F5FF75B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4FD-B786-45B9-BD6F-315AC4D2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6944-B079-4943-B75D-CE97F522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683EC-DE3B-4C09-B6F1-C87B986F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07C5-A9A7-46D5-8B12-26E433B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9BB2-1097-402C-9627-EF3D4412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4623-7392-4B61-AE2F-20C25742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FA46-D31B-4400-9AF5-84B91140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E9EA-0518-4540-9453-58604827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CB486-5E3A-4683-8EB6-8E7DFAF5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CABDC-3FBD-4F27-9F02-0006056E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B25BA-F6FD-4C5C-ADE3-13837626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7FE-057D-4BDE-9725-0BEA640B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737B-F9FA-4597-87A0-BEE957EF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1345-7E7D-4078-945C-6A6DFE85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359E0-19C5-4A3E-A0AA-9C8A3B76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C2FD-09CA-4DCA-86C6-F110DB5E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75A3-A65A-487C-8D58-BCEB14DB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7B80-162E-44B4-BABD-BBD2308A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5662-3783-4DD1-B14E-3D916971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03E5-BC53-4428-A71A-C09CAFA6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D195-B82B-4A4F-A523-0263B424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FFDD-12DB-4F5B-A445-E84A9D99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681-109F-45F5-B010-6A4299EB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52085-DE73-4F4B-88F5-8CF7F390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3290C-8688-4BB4-89CE-A3CA2FCE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AF1F9-47B7-4C45-BBFA-261ED5F8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A11D0-CF81-4F6B-9BB7-4A423753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4A58-5791-45DE-9155-0AEAF4B8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50E1-D864-4B52-A7B9-683C5EE9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97AD8-FB53-412A-923F-4043CCEB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F3DB5-D347-4DF9-9F82-95C5274F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95886-3DF1-4F32-A2AD-4FD63E07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D1C12-DDF2-48E7-9E68-0BB2AD1A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46D-704B-4F5D-BD77-4EB9A0A2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24FC9-F947-4D18-8C2D-C981A1D4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5BF3B-EC60-4968-A059-CF9034D4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DE86E-C741-40DA-9082-003D3409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7B1BB-BC37-44F9-AFC5-B29804D0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95106-EA89-4BDF-9916-EE3E84EB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6CA25-070F-4AD2-84ED-588EB5EF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668AB-6A99-491D-9C45-59F0A086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09420-6E64-4E0B-B124-EC8B321B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7221-318C-40CF-B839-D6D8DC19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A30D8-1758-41CB-AA8E-2D6A3830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006-5FC8-4870-A324-CE1CE1AE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AC34A-EC61-428D-9197-8F50C46E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43998-C149-49D6-A5B9-5BE55317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51029-15A6-427E-B80E-C6185C48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096-ACB0-4299-9A01-692B907D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A64-382D-461F-9876-3988CEF5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DFE9-4265-473F-9382-37652FEF1C0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F2E1-C423-40C8-BC6E-FDEEEEA28E2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3348-923F-43F2-933F-00406A1567C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5D94-2085-41D1-BDE6-E3E0070AC391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F1A8-C104-41FB-8867-651CE8D2381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692D-F4AA-4C67-A766-B386E7C5EE2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7CDB-7558-4432-BEBB-B6E8AA7CFC6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01E4-7382-4A36-891D-F96A23BBCEF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A6AB-CBD9-4D90-A567-C8BA8FF4DA0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7E95-1840-4D11-A659-93081CC6956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8A23-3822-41B6-B78C-CF88F9B49AA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2AA1-FC54-4F59-B556-B0BAA4C511C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Mai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unh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72960" y="1268280"/>
            <a:ext cx="1148400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Mai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41280" y="1484280"/>
            <a:ext cx="1151568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52216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de Mai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157112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de Mai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06360" y="1333440"/>
            <a:ext cx="108298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Mai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473120"/>
            <a:ext cx="108014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Mai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52440" y="1341360"/>
            <a:ext cx="107838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6-27T21:55:03Z</dcterms:modified>
  <cp:revision>415</cp:revision>
  <dc:subject/>
  <dc:title>Demografia</dc:title>
</cp:coreProperties>
</file>